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3E93-43CE-487F-B98C-1A9D523A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BAF-F83C-4DA6-ADF4-2323086C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AB8-1DD1-474F-9CC7-6FD43034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C90-00E9-43E3-89F5-7CC21ADE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7FC-2CAC-4461-97D4-10F744D7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92C-380F-41AD-A733-B2B56F88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223-0970-4ED5-912A-735EA33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C23-DEF1-449F-A086-40A2474D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FF0-2B65-41C4-B459-5BBDD8A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113-3740-473B-A028-1725F53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E1D-34C4-4075-8C8E-6FFF02F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436-9DB7-4B98-A23C-0F4E712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B32-5665-4870-A18D-7F1380F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3BC-D559-4824-BEB6-567172F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43E-C6B0-4CF6-A83C-D71A28B5A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724280" y="0"/>
            <a:ext cx="4419720" cy="1936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10-2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follower of Islam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religion came first, Judaism or Isl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4191120" cy="132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0-2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Focus Test next Wed/Th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1722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62012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Juda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crowdedkaba"/>
          <p:cNvPicPr/>
          <p:nvPr/>
        </p:nvPicPr>
        <p:blipFill>
          <a:blip r:embed="rId1"/>
          <a:srcRect l="0" t="18809" r="0" b="0"/>
          <a:stretch/>
        </p:blipFill>
        <p:spPr>
          <a:xfrm>
            <a:off x="0" y="1981080"/>
            <a:ext cx="687708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6934320" y="289548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place is considered to be the center of the earth to Muslims. It is known as Kabba, meaning square or four si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0" y="1371600"/>
            <a:ext cx="46483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*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Have Religion Chart out on your des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aaba_satellite"/>
          <p:cNvPicPr/>
          <p:nvPr/>
        </p:nvPicPr>
        <p:blipFill>
          <a:blip r:embed="rId1"/>
          <a:stretch/>
        </p:blipFill>
        <p:spPr>
          <a:xfrm>
            <a:off x="7621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233" t="4840" r="1233" b="14519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tone1"/>
          <p:cNvPicPr/>
          <p:nvPr/>
        </p:nvPicPr>
        <p:blipFill>
          <a:blip r:embed="rId1"/>
          <a:stretch/>
        </p:blipFill>
        <p:spPr>
          <a:xfrm>
            <a:off x="990720" y="685800"/>
            <a:ext cx="259056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howLetter2"/>
          <p:cNvPicPr/>
          <p:nvPr/>
        </p:nvPicPr>
        <p:blipFill>
          <a:blip r:embed="rId2"/>
          <a:stretch/>
        </p:blipFill>
        <p:spPr>
          <a:xfrm>
            <a:off x="4419720" y="609480"/>
            <a:ext cx="3400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WINDOWS\Desktop\World\medinamosqueofprophet.gif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22860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4921560" y="457200"/>
            <a:ext cx="3733200" cy="1739880"/>
          </a:xfrm>
          <a:prstGeom prst="rect">
            <a:avLst/>
          </a:prstGeom>
          <a:gradFill rotWithShape="0">
            <a:gsLst>
              <a:gs pos="0">
                <a:srgbClr val="ac904f"/>
              </a:gs>
              <a:gs pos="50000">
                <a:srgbClr val="f8cf72"/>
              </a:gs>
              <a:gs pos="100000">
                <a:srgbClr val="ac904f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osque Of 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 Madi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WINDOWS\Desktop\World\prophetsmosque in medina.jpg"/>
          <p:cNvPicPr/>
          <p:nvPr/>
        </p:nvPicPr>
        <p:blipFill>
          <a:blip r:embed="rId2"/>
          <a:stretch/>
        </p:blipFill>
        <p:spPr>
          <a:xfrm>
            <a:off x="495360" y="2819520"/>
            <a:ext cx="8153280" cy="381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76880" cy="326700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076640" cy="282888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  <p:graphicFrame>
        <p:nvGraphicFramePr>
          <p:cNvPr id="64" name="Object 1024"/>
          <p:cNvGraphicFramePr/>
          <p:nvPr/>
        </p:nvGraphicFramePr>
        <p:xfrm>
          <a:off x="8534520" y="6324480"/>
          <a:ext cx="3045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0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4520" y="6324480"/>
                    <a:ext cx="304560" cy="304920"/>
                  </a:xfrm>
                  <a:prstGeom prst="rect">
                    <a:avLst/>
                  </a:prstGeom>
                  <a:ln w="9360">
                    <a:solidFill>
                      <a:srgbClr val="5c2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Text Box 5"/>
          <p:cNvSpPr/>
          <p:nvPr/>
        </p:nvSpPr>
        <p:spPr>
          <a:xfrm>
            <a:off x="5760720" y="685800"/>
            <a:ext cx="2885760" cy="19224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fff99"/>
              </a:gs>
              <a:gs pos="100000">
                <a:srgbClr val="663300"/>
              </a:gs>
            </a:gsLst>
            <a:lin ang="5400000"/>
          </a:gradFill>
          <a:ln w="5724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The Qur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Holy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Of 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sbceo.k12.ca.us/~vms/carlton/quran3.jpg"/>
          <p:cNvPicPr/>
          <p:nvPr/>
        </p:nvPicPr>
        <p:blipFill>
          <a:blip r:embed="rId5"/>
          <a:stretch/>
        </p:blipFill>
        <p:spPr>
          <a:xfrm>
            <a:off x="228600" y="3809880"/>
            <a:ext cx="4114800" cy="275904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278520" y="578520"/>
            <a:ext cx="26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Monotheistic 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143000"/>
          <a:ext cx="8615160" cy="5100480"/>
        </p:xfrm>
        <a:graphic>
          <a:graphicData uri="http://schemas.openxmlformats.org/drawingml/2006/table">
            <a:tbl>
              <a:tblPr/>
              <a:tblGrid>
                <a:gridCol w="1174680"/>
                <a:gridCol w="882720"/>
                <a:gridCol w="914400"/>
                <a:gridCol w="836640"/>
                <a:gridCol w="1373040"/>
                <a:gridCol w="1219320"/>
                <a:gridCol w="1069920"/>
                <a:gridCol w="114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1800 B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Christia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33 C.E. (or A.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largest  # of follo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Means to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“surrender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622 C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(or A.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12"/>
          <p:cNvSpPr/>
          <p:nvPr/>
        </p:nvSpPr>
        <p:spPr>
          <a:xfrm>
            <a:off x="0" y="62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4"/>
          <p:cNvSpPr/>
          <p:nvPr/>
        </p:nvSpPr>
        <p:spPr>
          <a:xfrm>
            <a:off x="1450800" y="1752480"/>
            <a:ext cx="914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ses gave 10 command-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5"/>
          <p:cNvSpPr/>
          <p:nvPr/>
        </p:nvSpPr>
        <p:spPr>
          <a:xfrm>
            <a:off x="2286000" y="182880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uk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ass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Yom Kip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6"/>
          <p:cNvSpPr/>
          <p:nvPr/>
        </p:nvSpPr>
        <p:spPr>
          <a:xfrm>
            <a:off x="3276720" y="16765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7"/>
          <p:cNvSpPr/>
          <p:nvPr/>
        </p:nvSpPr>
        <p:spPr>
          <a:xfrm>
            <a:off x="3276720" y="1752480"/>
            <a:ext cx="838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o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Yahweh or Jehov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9"/>
          <p:cNvSpPr/>
          <p:nvPr/>
        </p:nvSpPr>
        <p:spPr>
          <a:xfrm>
            <a:off x="5486400" y="1676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ynag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0"/>
          <p:cNvSpPr/>
          <p:nvPr/>
        </p:nvSpPr>
        <p:spPr>
          <a:xfrm>
            <a:off x="6858000" y="1676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1"/>
          <p:cNvSpPr/>
          <p:nvPr/>
        </p:nvSpPr>
        <p:spPr>
          <a:xfrm>
            <a:off x="7772400" y="1676520"/>
            <a:ext cx="1143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3"/>
          <p:cNvSpPr/>
          <p:nvPr/>
        </p:nvSpPr>
        <p:spPr>
          <a:xfrm>
            <a:off x="4114800" y="1676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4"/>
          <p:cNvSpPr/>
          <p:nvPr/>
        </p:nvSpPr>
        <p:spPr>
          <a:xfrm>
            <a:off x="4038480" y="1752480"/>
            <a:ext cx="1447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ab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ll Looking for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ose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16002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286000" y="3352680"/>
            <a:ext cx="99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241800" y="3341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362320" y="4952880"/>
            <a:ext cx="990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1413000" y="4946760"/>
            <a:ext cx="1143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oph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114800" y="3376440"/>
            <a:ext cx="1447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Jesus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the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God’s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521320" y="3341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114800" y="4724280"/>
            <a:ext cx="1389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where Muhammad ascended in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ve pillars of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3235320" y="4946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Ko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*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7772400" y="33289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 &amp;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858000" y="32767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7819920" y="487692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693432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5538960" y="4807080"/>
            <a:ext cx="86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ca in Saudi Arabia is a most 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21:30:34Z</dcterms:created>
  <dc:creator>Selena Ramsey</dc:creator>
  <dc:description/>
  <dc:language>en-US</dc:language>
  <cp:lastModifiedBy>poweruser</cp:lastModifiedBy>
  <dcterms:modified xsi:type="dcterms:W3CDTF">2011-10-28T13:04:27Z</dcterms:modified>
  <cp:revision>42</cp:revision>
  <dc:subject/>
  <dc:title>Agenda Nov. 9, 2005</dc:title>
</cp:coreProperties>
</file>